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058A-8D66-4C9B-A4DB-0CA7ADBC4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457C-2618-4B3A-881A-CA94A71A6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23BD-554D-48B1-9E9B-A782BD9590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9514-1F08-4872-94EA-DDF8B6436A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8455-FB59-4F96-944D-4F11CC7580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51E-01A8-4F3C-8C80-73D8E6970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F5E2-1AAB-441A-AB32-1BE16CFFE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C210-8844-4721-A29B-0B458894E2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5406-1706-4F93-94C2-97B4BA515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1379-3852-4A69-ADCF-3687475F9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74EA-2719-40F7-8C84-18320E7A80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0CE3-48BD-47F6-AAB5-764564A40B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C3EC-61E0-4CA2-86C7-0BDBFB6340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F61F-717D-4E02-A0D3-F28356AC80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BF2C-625F-4683-8905-3ADD323907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448F-77FF-4F5F-A385-72B67AADAC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5252-DE58-4A44-8E45-8CBC7335B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139C-F74A-4253-A957-4E7E0283C1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BF4A-EB08-444D-9F9E-9DB0F1CA1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C944-047C-47BB-9738-8CA6BBE2C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62F8-83FE-43BA-8965-EC4D2E3E29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34EA-B2AF-44C3-9823-AF4B204AD0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FCBA-AE99-4724-A091-07A8D5390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BB51-D323-4064-947F-3C644E835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065-E84A-4FF3-A532-37923270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1E1-8077-4431-AD17-E7CA66EF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1A8-F8D6-41DA-9FDC-7134C259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AAB-CA6E-4916-9E5E-AC454F49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829-2052-4708-9085-67CFD079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84A-5848-4F35-B229-9534981F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08C-1DC8-4961-8C55-F015A5A4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6BD-2597-4FA9-A34E-6D648042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266-65EB-4887-8E8B-44CCE786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FA6-73A6-4F76-B077-A9CB1C47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0F6-8A55-44E8-8EE0-5B7E78CC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56A4-DD2A-46C2-96E6-B3161CF92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99680" y="2214720"/>
            <a:ext cx="8201160" cy="19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человеческое “я” есть деятель, который, может быть, биллионы лет назад вёл жизн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тон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, объединив вокруг себя несколько электронов, усвоил тип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ислород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, усложнив ещё более своё тело, поднялся до типа жизни, например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рист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лее перешёл к жизн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оклеточного живот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– после ряда перевоплощений, или, лучше [сказать], выражаясь термином Лейбница, после ряда метаморфоз – стал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еловеческим “я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21589901"/>
          <p:cNvPicPr/>
          <p:nvPr/>
        </p:nvPicPr>
        <p:blipFill>
          <a:blip r:embed="rId1"/>
          <a:stretch/>
        </p:blipFill>
        <p:spPr>
          <a:xfrm>
            <a:off x="5937120" y="1619280"/>
            <a:ext cx="117180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9851724"/>
          <p:cNvPicPr/>
          <p:nvPr/>
        </p:nvPicPr>
        <p:blipFill>
          <a:blip r:embed="rId2"/>
          <a:stretch/>
        </p:blipFill>
        <p:spPr>
          <a:xfrm>
            <a:off x="7521480" y="24829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19930693"/>
          <p:cNvPicPr/>
          <p:nvPr/>
        </p:nvPicPr>
        <p:blipFill>
          <a:blip r:embed="rId3"/>
          <a:stretch/>
        </p:blipFill>
        <p:spPr>
          <a:xfrm>
            <a:off x="6081840" y="3201840"/>
            <a:ext cx="96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25722158"/>
          <p:cNvPicPr/>
          <p:nvPr/>
        </p:nvPicPr>
        <p:blipFill>
          <a:blip r:embed="rId4"/>
          <a:stretch/>
        </p:blipFill>
        <p:spPr>
          <a:xfrm>
            <a:off x="7556400" y="384984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24795109"/>
          <p:cNvPicPr/>
          <p:nvPr/>
        </p:nvPicPr>
        <p:blipFill>
          <a:blip r:embed="rId5"/>
          <a:stretch/>
        </p:blipFill>
        <p:spPr>
          <a:xfrm>
            <a:off x="6153120" y="4857840"/>
            <a:ext cx="88596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8" descr="Диоген (clipart)"/>
          <p:cNvPicPr/>
          <p:nvPr/>
        </p:nvPicPr>
        <p:blipFill>
          <a:blip r:embed="rId6"/>
          <a:stretch/>
        </p:blipFill>
        <p:spPr>
          <a:xfrm>
            <a:off x="7556400" y="5218200"/>
            <a:ext cx="1238400" cy="1224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ерцание других сущ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и, какими они яв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по себе, возмож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есть некое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знающий субъек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ьное человеческо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сверхвременно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рхпространственное быт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сно связанное с целым мир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висящая от времен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ранства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ь сверхвременных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пространственных деятел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 с друго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благодаря котор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ереживает один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ё проясн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не только для н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для других деятелей всего ми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 Франк (1877‑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5480" y="2769840"/>
            <a:ext cx="550692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дмет знания: Об основах и пределах отвлечённого зна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человека: Опыт введения в философскую психолог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жиз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ые основы общества: Введение в социальную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остижимое: Онтологическое введение в философию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Франк СЛ (1)"/>
          <p:cNvPicPr/>
          <p:nvPr/>
        </p:nvPicPr>
        <p:blipFill>
          <a:blip r:embed="rId1"/>
          <a:stretch/>
        </p:blipFill>
        <p:spPr>
          <a:xfrm>
            <a:off x="539640" y="1798560"/>
            <a:ext cx="25956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2" name="Text Box 7"/>
          <p:cNvSpPr/>
          <p:nvPr/>
        </p:nvSpPr>
        <p:spPr>
          <a:xfrm>
            <a:off x="4497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Металогическое един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Живое зн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знаваемый мир со всех сторон окружён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ёмной бездной непостижимого.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ует отличать «непостижимое для нас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кантовская «вещь в себе»)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епостижимого в его самобыт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читать эту исконную таинственность быт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ледствием нашей ограниченной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сприятия – значит упростить проблем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звести тайну на уровень неразрешимой ша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огда, под предлогом «непостижимости»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абсолютного быти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 выхолости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глубинное из предметного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гонит его в прокрустово ложе своих категор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bregno_monument_of_cardinal_nicola_de_cusa"/>
          <p:cNvPicPr/>
          <p:nvPr/>
        </p:nvPicPr>
        <p:blipFill>
          <a:blip r:embed="rId1"/>
          <a:stretch/>
        </p:blipFill>
        <p:spPr>
          <a:xfrm>
            <a:off x="539640" y="2266920"/>
            <a:ext cx="2428920" cy="3181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835800" y="236052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постижимое постигается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средством его непостиже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761800" y="467820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олай Куза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5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316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е есть не только то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что было, есть и будет, оно есть скор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чник бытия;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, чем бытие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тенциальность, или своб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аиболее явное проявлени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постижимого в мире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етерминизм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дной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определённостью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о если глубина личности есть внутренне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наружение Непостижимого, то мы получа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пределённость определё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пределённостью»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у в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етермин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бода воли дел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чески реа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изически невозможное –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граниченность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ы всемогущего (Божественный Свет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е смог просветить душу Иуд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 нельзя объяснить;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го и не нужно объяснять: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объяснить зло» значило бы «оправдать зло», н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пустимо только такое толкование зла, котор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вляется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личением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а не оправд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этому нет никаких гарантий для торжества начал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обра и разума: борьба между добром и злом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ковечна, более тог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ет смысл совершенн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зависимо от веры в конечную победу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ад з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пасение мира возможно лишь силой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благодати, но это отнюдь не снимает обязан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ершенствования мир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создания в нём таких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условий, при которых зло свелось бы к миниму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овечная борьба добра и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165480" y="1870200"/>
            <a:ext cx="3238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0-1965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 Фран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Лосский (1-2)"/>
          <p:cNvPicPr/>
          <p:nvPr/>
        </p:nvPicPr>
        <p:blipFill>
          <a:blip r:embed="rId1"/>
          <a:stretch/>
        </p:blipFill>
        <p:spPr>
          <a:xfrm>
            <a:off x="647640" y="1906560"/>
            <a:ext cx="231480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8" descr="Франк СЛ (1)"/>
          <p:cNvPicPr/>
          <p:nvPr/>
        </p:nvPicPr>
        <p:blipFill>
          <a:blip r:embed="rId2"/>
          <a:stretch/>
        </p:blipFill>
        <p:spPr>
          <a:xfrm>
            <a:off x="6656400" y="3057480"/>
            <a:ext cx="183816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днако, возможное «совершенствование» мир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наше врем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меня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ремлением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 метафизически невозможному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илами человеческими «спасению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ак возник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ересь утопизма»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– стремлени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«спасти мир» установлением неко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го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удительно осуществляемого поря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о спасти мир принуждением невозможно,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так как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пытки построить идеальный мир наталкиваю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на сопротивление человеческой природы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прибегать к жестоким мер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 результате вместо положительн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роен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ового мира на практике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аетс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тары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Ересь утоп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нешняя сфера социальности («общественности»)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ывается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оборности»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– первич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лидарной слитности индивидуальных “я”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 всеобъемлющем “мы”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не ес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сто множественное число от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(в своём основном и первичном смысле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ообще не может иметь множественного числа) –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единство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, следовательно, не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ич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тегория социального бытия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(столь ж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ерви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как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), в которой преодолеваетс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вечна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отивопоставленность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ы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бор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“мы”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есть непосредственное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траже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а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в социально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циальная философ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интуи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892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. О. Лосский: органический идеал-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коорд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вида интуи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как органическое 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. Л. Фра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е еди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Живое знани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епостижим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детерминиз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: Вековечная борьба добра и з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альная философ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Ересь утопиз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рность как основа социа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. Лосский (1870-1965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ческий идеал-реа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560" y="2769840"/>
            <a:ext cx="48942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снование интуитивиз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как органическое цело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увственная, интеллектуальная и мистическая интуиц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мировое зло: Основы теодице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абсолютного добра: Основы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рус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Лосский (1-2)"/>
          <p:cNvPicPr/>
          <p:nvPr/>
        </p:nvPicPr>
        <p:blipFill>
          <a:blip r:embed="rId1"/>
          <a:stretch/>
        </p:blipFill>
        <p:spPr>
          <a:xfrm>
            <a:off x="5505480" y="1798560"/>
            <a:ext cx="32670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5"/>
          <p:cNvSpPr/>
          <p:nvPr/>
        </p:nvSpPr>
        <p:spPr>
          <a:xfrm>
            <a:off x="9716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тенциональность с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коорд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98620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91456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(интуитив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вида инту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58920" y="514512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атериальные качества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98560" y="3525840"/>
            <a:ext cx="4678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еллектуальн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мир и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1438200" y="1906560"/>
            <a:ext cx="3598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ая интуи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игает 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864040" y="1906560"/>
            <a:ext cx="2978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туитив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ого ак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олее чистом ви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наруж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лучаях, ког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ом я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ьное быти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 идей, чужое «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едельных случаях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благий, всемогущ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здесущий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 как систему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чайшее значение которой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а состоит из сущ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ых творить с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лостивейшей помощ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очайшее благ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ую полноту жиз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личности способны к этому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творит только лич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(иерархический персонализм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ерархия субстанциальных дея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0800000">
            <a:off x="610920" y="1905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субстанциальный деятел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развиваться и подним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 более высокие ступени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творчески вырабатыв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части подражательно усва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более сложные типы жиз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Лосский (1-2red)"/>
          <p:cNvPicPr/>
          <p:nvPr/>
        </p:nvPicPr>
        <p:blipFill>
          <a:blip r:embed="rId1"/>
          <a:stretch/>
        </p:blipFill>
        <p:spPr>
          <a:xfrm>
            <a:off x="7124760" y="1798560"/>
            <a:ext cx="1590480" cy="21621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1T05:42:15Z</dcterms:created>
  <dc:creator>Николай Бирюков / Nikolai Biryukov</dc:creator>
  <dc:description>Версия мая 2007 г.</dc:description>
  <dc:language>en-US</dc:language>
  <cp:lastModifiedBy>LEGION</cp:lastModifiedBy>
  <dcterms:modified xsi:type="dcterms:W3CDTF">2014-11-11T12:46:26Z</dcterms:modified>
  <cp:revision>56</cp:revision>
  <dc:subject>История русской философии - Лекция 13</dc:subject>
  <dc:title>Русский интуитивизм</dc:title>
</cp:coreProperties>
</file>